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8B5-7294-45CA-972E-2126B544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EAE-0151-4BB1-8AB2-536782F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AA5-4A0B-4A49-BD92-FDA208CF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C05-A5F8-4ECD-B641-7E049C03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8C4-8731-49B2-85C2-B9D0D97E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854-EAA5-473E-97EB-194F228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F106-A352-4D21-A525-AC1C3C8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D14-AD0B-43BF-BA0A-51CDABD9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E4B8-11AA-4123-9B86-E5CE1A6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EE4-E121-4AED-A890-5A2612A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050B-4683-418B-94A8-6059E54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4AB-CCA4-41DA-914C-A88A194C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08AD-390F-4F16-BC89-B792F3A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B04-3113-463F-9834-6542E2A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E050-0956-4603-B0D2-4A03F0B7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167-5942-469C-B8AC-55F80D22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93BE-EC67-4B03-829C-47B81970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315-F0E5-4750-A218-24C5D2D4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377-5A71-4C4D-B9A7-0FB97724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35F-0241-4794-9036-F58855A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F34-F410-4AED-95F5-59BBD40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4B9-31A8-4DA4-B745-3E73161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713-C145-46FC-8B1F-9E7F7E2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235-BBF3-4481-B1F8-EA9B9C6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C435-C36A-4B0C-8722-4BA8FB101632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2A7-A479-4F7A-80BD-275DF4CDA5A9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1:03Z</dcterms:modified>
  <cp:revision>2</cp:revision>
  <dc:subject/>
  <dc:title>幻灯片 1</dc:title>
</cp:coreProperties>
</file>